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4040" y="7426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77F-F1BE-4982-9273-54D1B0AD3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doesn’t really tell us much other than that the sample is fairly close to the general gallery visitor. Note the large proportion of students – this is actually likely to be even higher in normal circumstances. The trials were conducted during the vacation, so there were less students arou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also the small proportion of older visitors, who were in general reluctant to use the system. But that’s not a problem we want to address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d 58 responses (out of 133 visitor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ain, this doesn’t say much, but it suggests that the users were satisfied with the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s to Nick who did the bulk of the work and the evaluation and who is currently sunning himself on a beach in Austral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hat have you got like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done mainly by Nick Drumm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Sc project: most of the work done by Ni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tt Hall Gallery: Part of Manchester City Art Galleries. Primarily focused on costume and clo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ts of different things along with information about use, ownership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kind of record that the gallery has (although much of the collection is not actually in electronic form, of which more lat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cords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metadata – but not semantic in terms of keywords, say,  rather catalogue metadata. Also information about where the object came from, e.g. don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criptions – a textual description of the object or its u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ages – the things that we’ve been working with have scanned photos. But not much of the collection has this kind of stuf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sues to do with how one collects all this data – not what I’m going to talk about though. We’re making an assumption that it’s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 problem i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rer’s comment about the web having 10% broken links by 200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criptive links may not be a bad thing if the intention is to provide educational material, but they have to be authored and the designer has to second guess what the user may requi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articular, can we d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508-687A-4807-AEB4-ECF555E3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DD8-56CE-4EC7-A637-3F442232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9BB-6F15-4091-A71E-6B0DD9D4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88A-D9A5-4EE1-B917-FC1FAF26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BDF-625A-4E74-B92E-9B3794AC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04B-FAB4-4657-BC3D-1BBD7815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094-EC23-497B-ADFE-9CDED616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07E-4241-4CF2-B66F-D14B448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C8C-744C-453F-92B5-BCDE47C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1D3-E954-468C-8F10-B3DEB4F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B06-5A9F-4EB4-B823-D48DD58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E23-95D6-4079-AE6D-5A88B97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523-C7E2-448D-8825-BBE75DAF7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55680"/>
            <a:ext cx="104760" cy="61084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47680"/>
            <a:ext cx="5624640" cy="1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8872200" y="455760"/>
            <a:ext cx="104760" cy="61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3351240" y="6564240"/>
            <a:ext cx="5624640" cy="108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latt.avi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Supporting Public Browsing of an Art Gallery Collections Database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an Bechhofer, Nick Drummond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00200" y="1371600"/>
            <a:ext cx="5943600" cy="4114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System Architecture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4144680" y="4997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19051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Key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724280"/>
            <a:ext cx="1295280" cy="5335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7913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5238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hesau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28600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llection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038480" y="2971800"/>
            <a:ext cx="2971800" cy="1066680"/>
            <a:chOff x="4038480" y="2971800"/>
            <a:chExt cx="2971800" cy="1066680"/>
          </a:xfrm>
        </p:grpSpPr>
        <p:sp>
          <p:nvSpPr>
            <p:cNvPr id="172" name=""/>
            <p:cNvSpPr/>
            <p:nvPr/>
          </p:nvSpPr>
          <p:spPr>
            <a:xfrm>
              <a:off x="4038480" y="2971800"/>
              <a:ext cx="2971800" cy="1066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ervlet En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07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3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imi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alc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09680" y="3124080"/>
            <a:ext cx="990720" cy="7621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9" idx="1"/>
            <a:endCxn id="166" idx="3"/>
          </p:cNvCxnSpPr>
          <p:nvPr/>
        </p:nvCxnSpPr>
        <p:spPr>
          <a:xfrm flipH="1">
            <a:off x="3351960" y="1790280"/>
            <a:ext cx="16772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0" idx="1"/>
            <a:endCxn id="166" idx="3"/>
          </p:cNvCxnSpPr>
          <p:nvPr/>
        </p:nvCxnSpPr>
        <p:spPr>
          <a:xfrm flipH="1" flipV="1">
            <a:off x="3351960" y="2171520"/>
            <a:ext cx="16772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6" idx="2"/>
            <a:endCxn id="175" idx="1"/>
          </p:cNvCxnSpPr>
          <p:nvPr/>
        </p:nvCxnSpPr>
        <p:spPr>
          <a:xfrm>
            <a:off x="2704680" y="24379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67" idx="0"/>
          </p:cNvCxnSpPr>
          <p:nvPr/>
        </p:nvCxnSpPr>
        <p:spPr>
          <a:xfrm>
            <a:off x="5524200" y="40381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>
            <a:stCxn id="167" idx="2"/>
            <a:endCxn id="168" idx="0"/>
          </p:cNvCxnSpPr>
          <p:nvPr/>
        </p:nvCxnSpPr>
        <p:spPr>
          <a:xfrm>
            <a:off x="5524200" y="5257800"/>
            <a:ext cx="10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1" name=""/>
          <p:cNvCxnSpPr>
            <a:stCxn id="175" idx="4"/>
            <a:endCxn id="172" idx="1"/>
          </p:cNvCxnSpPr>
          <p:nvPr/>
        </p:nvCxnSpPr>
        <p:spPr>
          <a:xfrm>
            <a:off x="3200400" y="3504960"/>
            <a:ext cx="838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981080" y="3962520"/>
            <a:ext cx="12956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2" idx="3"/>
            <a:endCxn id="173" idx="1"/>
          </p:cNvCxnSpPr>
          <p:nvPr/>
        </p:nvCxnSpPr>
        <p:spPr>
          <a:xfrm flipV="1">
            <a:off x="3276720" y="3695400"/>
            <a:ext cx="9151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1981080" y="4724280"/>
            <a:ext cx="12956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ron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3"/>
            <a:endCxn id="167" idx="1"/>
          </p:cNvCxnSpPr>
          <p:nvPr/>
        </p:nvCxnSpPr>
        <p:spPr>
          <a:xfrm>
            <a:off x="3276360" y="4990680"/>
            <a:ext cx="160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The Application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87" name="front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0920"/>
            <a:ext cx="47340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Evaluation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Qualitativ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evaluation, assessing the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satisfactio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that users felt when using the system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ata captured through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questionnair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terview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Basic data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, e.g. sex, age, occupation, experience of similar IT system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qnnr1" descr=""/>
          <p:cNvPicPr/>
          <p:nvPr/>
        </p:nvPicPr>
        <p:blipFill>
          <a:blip r:embed="rId1"/>
          <a:stretch/>
        </p:blipFill>
        <p:spPr>
          <a:xfrm>
            <a:off x="5388120" y="4003560"/>
            <a:ext cx="1774800" cy="2549520"/>
          </a:xfrm>
          <a:prstGeom prst="rect">
            <a:avLst/>
          </a:prstGeom>
          <a:ln w="0">
            <a:noFill/>
          </a:ln>
        </p:spPr>
      </p:pic>
      <p:pic>
        <p:nvPicPr>
          <p:cNvPr id="191" name="qnnr2" descr=""/>
          <p:cNvPicPr/>
          <p:nvPr/>
        </p:nvPicPr>
        <p:blipFill>
          <a:blip r:embed="rId2"/>
          <a:stretch/>
        </p:blipFill>
        <p:spPr>
          <a:xfrm>
            <a:off x="7010280" y="3962520"/>
            <a:ext cx="1752840" cy="252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43200" y="4495680"/>
            <a:ext cx="76320" cy="1219320"/>
          </a:xfrm>
          <a:custGeom>
            <a:avLst/>
            <a:gdLst>
              <a:gd name="textAreaLeft" fmla="*/ 0 w 76320"/>
              <a:gd name="textAreaRight" fmla="*/ 5364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9360" y="4724280"/>
            <a:ext cx="13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 Narrow"/>
              </a:rPr>
              <a:t>Based on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 Narrow"/>
              </a:rPr>
              <a:t>7 point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Results: Demographic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06668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14800" y="1066680"/>
          <a:ext cx="42670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06668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80" y="3809880"/>
          <a:ext cx="4267440" cy="284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809880"/>
                    <a:ext cx="426744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343400" y="3809880"/>
          <a:ext cx="4267080" cy="284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80988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Results: User Response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598760"/>
          <a:ext cx="7848720" cy="48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98760"/>
                    <a:ext cx="78487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Authoring suppor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was achieved through the creation of links via keyword association – the linking task has effectively been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remov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valuation suggests that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brows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the generated hypertext was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satisfactory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lthough this was a very simple prototype adopting some well-understood techniques, the successful reception suggests that the approac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s worth pursu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hat+boots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554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00200" y="1371600"/>
            <a:ext cx="5943600" cy="4114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4680" y="4997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9051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Key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724280"/>
            <a:ext cx="1295280" cy="5335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57913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15238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hesau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28600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llection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38480" y="2971800"/>
            <a:ext cx="2971800" cy="1066680"/>
            <a:chOff x="4038480" y="2971800"/>
            <a:chExt cx="2971800" cy="1066680"/>
          </a:xfrm>
        </p:grpSpPr>
        <p:sp>
          <p:nvSpPr>
            <p:cNvPr id="217" name=""/>
            <p:cNvSpPr/>
            <p:nvPr/>
          </p:nvSpPr>
          <p:spPr>
            <a:xfrm>
              <a:off x="4038480" y="2971800"/>
              <a:ext cx="2971800" cy="1066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ervlet En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07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3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imi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alc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209680" y="3124080"/>
            <a:ext cx="990720" cy="7621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1"/>
            <a:endCxn id="211" idx="3"/>
          </p:cNvCxnSpPr>
          <p:nvPr/>
        </p:nvCxnSpPr>
        <p:spPr>
          <a:xfrm flipH="1">
            <a:off x="3351960" y="1790280"/>
            <a:ext cx="16772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5" idx="1"/>
            <a:endCxn id="211" idx="3"/>
          </p:cNvCxnSpPr>
          <p:nvPr/>
        </p:nvCxnSpPr>
        <p:spPr>
          <a:xfrm flipH="1" flipV="1">
            <a:off x="3351960" y="2171520"/>
            <a:ext cx="16772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1" idx="2"/>
            <a:endCxn id="220" idx="1"/>
          </p:cNvCxnSpPr>
          <p:nvPr/>
        </p:nvCxnSpPr>
        <p:spPr>
          <a:xfrm>
            <a:off x="2704680" y="24379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7" idx="2"/>
            <a:endCxn id="212" idx="0"/>
          </p:cNvCxnSpPr>
          <p:nvPr/>
        </p:nvCxnSpPr>
        <p:spPr>
          <a:xfrm>
            <a:off x="5524200" y="40381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5" name=""/>
          <p:cNvCxnSpPr>
            <a:stCxn id="212" idx="2"/>
            <a:endCxn id="213" idx="0"/>
          </p:cNvCxnSpPr>
          <p:nvPr/>
        </p:nvCxnSpPr>
        <p:spPr>
          <a:xfrm>
            <a:off x="5524200" y="5257800"/>
            <a:ext cx="10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0" idx="4"/>
            <a:endCxn id="217" idx="1"/>
          </p:cNvCxnSpPr>
          <p:nvPr/>
        </p:nvCxnSpPr>
        <p:spPr>
          <a:xfrm>
            <a:off x="3200400" y="3504960"/>
            <a:ext cx="838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981080" y="3962520"/>
            <a:ext cx="12956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7" idx="3"/>
            <a:endCxn id="218" idx="1"/>
          </p:cNvCxnSpPr>
          <p:nvPr/>
        </p:nvCxnSpPr>
        <p:spPr>
          <a:xfrm flipV="1">
            <a:off x="3276720" y="3695400"/>
            <a:ext cx="9151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981080" y="4724280"/>
            <a:ext cx="12956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ron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12" idx="1"/>
          </p:cNvCxnSpPr>
          <p:nvPr/>
        </p:nvCxnSpPr>
        <p:spPr>
          <a:xfrm>
            <a:off x="3276360" y="4990680"/>
            <a:ext cx="160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Future Work 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638680" y="1828800"/>
            <a:ext cx="3505320" cy="2286000"/>
            <a:chOff x="5638680" y="1828800"/>
            <a:chExt cx="3505320" cy="2286000"/>
          </a:xfrm>
        </p:grpSpPr>
        <p:sp>
          <p:nvSpPr>
            <p:cNvPr id="233" name=""/>
            <p:cNvSpPr/>
            <p:nvPr/>
          </p:nvSpPr>
          <p:spPr>
            <a:xfrm>
              <a:off x="5638680" y="1828800"/>
              <a:ext cx="7621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1320" y="3352680"/>
              <a:ext cx="76176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2133720"/>
              <a:ext cx="1752480" cy="115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Richer knowledge models may aid indexing and allow better similarity calculatio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3" idx="6"/>
              <a:endCxn id="235" idx="1"/>
            </p:cNvCxnSpPr>
            <p:nvPr/>
          </p:nvCxnSpPr>
          <p:spPr>
            <a:xfrm>
              <a:off x="6415200" y="2209320"/>
              <a:ext cx="977040" cy="50688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  <p:cxnSp>
          <p:nvCxnSpPr>
            <p:cNvPr id="237" name=""/>
            <p:cNvCxnSpPr>
              <a:stCxn id="234" idx="7"/>
              <a:endCxn id="235" idx="1"/>
            </p:cNvCxnSpPr>
            <p:nvPr/>
          </p:nvCxnSpPr>
          <p:spPr>
            <a:xfrm flipV="1">
              <a:off x="6441840" y="2715480"/>
              <a:ext cx="950040" cy="73404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2971800" y="1219320"/>
            <a:ext cx="2590920" cy="1752480"/>
            <a:chOff x="2971800" y="1219320"/>
            <a:chExt cx="2590920" cy="1752480"/>
          </a:xfrm>
        </p:grpSpPr>
        <p:sp>
          <p:nvSpPr>
            <p:cNvPr id="239" name=""/>
            <p:cNvSpPr/>
            <p:nvPr/>
          </p:nvSpPr>
          <p:spPr>
            <a:xfrm>
              <a:off x="4800600" y="2209680"/>
              <a:ext cx="7621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"/>
            <p:cNvCxnSpPr>
              <a:stCxn id="239" idx="1"/>
              <a:endCxn id="241" idx="2"/>
            </p:cNvCxnSpPr>
            <p:nvPr/>
          </p:nvCxnSpPr>
          <p:spPr>
            <a:xfrm flipH="1" flipV="1">
              <a:off x="3733560" y="1746000"/>
              <a:ext cx="1178640" cy="56088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2971800" y="1219320"/>
              <a:ext cx="1523880" cy="52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More dat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ther collectio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38080" y="1828800"/>
            <a:ext cx="1981440" cy="2454840"/>
            <a:chOff x="838080" y="1828800"/>
            <a:chExt cx="1981440" cy="2454840"/>
          </a:xfrm>
        </p:grpSpPr>
        <p:sp>
          <p:nvSpPr>
            <p:cNvPr id="243" name=""/>
            <p:cNvSpPr/>
            <p:nvPr/>
          </p:nvSpPr>
          <p:spPr>
            <a:xfrm>
              <a:off x="2057400" y="1828800"/>
              <a:ext cx="7621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>
              <a:stCxn id="243" idx="3"/>
              <a:endCxn id="245" idx="0"/>
            </p:cNvCxnSpPr>
            <p:nvPr/>
          </p:nvCxnSpPr>
          <p:spPr>
            <a:xfrm flipH="1">
              <a:off x="1713960" y="2494080"/>
              <a:ext cx="454680" cy="63072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  <p:sp>
          <p:nvSpPr>
            <p:cNvPr id="245" name=""/>
            <p:cNvSpPr/>
            <p:nvPr/>
          </p:nvSpPr>
          <p:spPr>
            <a:xfrm>
              <a:off x="838080" y="3124080"/>
              <a:ext cx="1752840" cy="115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mprove Keyw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Extraction through the use of more sophisticated IR techniqu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2841480" y="3841200"/>
            <a:ext cx="5691600" cy="2602440"/>
            <a:chOff x="2841480" y="3841200"/>
            <a:chExt cx="5691600" cy="2602440"/>
          </a:xfrm>
        </p:grpSpPr>
        <p:sp>
          <p:nvSpPr>
            <p:cNvPr id="247" name=""/>
            <p:cNvSpPr/>
            <p:nvPr/>
          </p:nvSpPr>
          <p:spPr>
            <a:xfrm>
              <a:off x="2841480" y="389736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Web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9" idx="0"/>
              <a:endCxn id="247" idx="2"/>
            </p:cNvCxnSpPr>
            <p:nvPr/>
          </p:nvCxnSpPr>
          <p:spPr>
            <a:xfrm flipV="1">
              <a:off x="3271320" y="4326840"/>
              <a:ext cx="1080" cy="122940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073480" y="5460840"/>
              <a:ext cx="614520" cy="6145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D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02520" y="5030640"/>
              <a:ext cx="86184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Hyperlin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6013440"/>
              <a:ext cx="86184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Cit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6360" y="552132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Pers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8480" y="4170240"/>
              <a:ext cx="30636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80920" y="3841200"/>
              <a:ext cx="75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Key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linkb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4560" y="5460840"/>
              <a:ext cx="306360" cy="30672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08400" y="513324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10600" y="6075360"/>
              <a:ext cx="30636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4960" y="5747760"/>
              <a:ext cx="94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Bibliogra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02440" y="4600440"/>
              <a:ext cx="30816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64520" y="4272840"/>
              <a:ext cx="75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X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linkb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46800" y="4267080"/>
              <a:ext cx="308160" cy="3081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6120" y="4342680"/>
              <a:ext cx="82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Publis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linkb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50" idx="7"/>
              <a:endCxn id="251" idx="1"/>
            </p:cNvCxnSpPr>
            <p:nvPr/>
          </p:nvCxnSpPr>
          <p:spPr>
            <a:xfrm flipV="1">
              <a:off x="5599080" y="5244840"/>
              <a:ext cx="704160" cy="30528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65" name=""/>
            <p:cNvCxnSpPr>
              <a:stCxn id="250" idx="6"/>
              <a:endCxn id="253" idx="1"/>
            </p:cNvCxnSpPr>
            <p:nvPr/>
          </p:nvCxnSpPr>
          <p:spPr>
            <a:xfrm flipV="1">
              <a:off x="5687640" y="5737320"/>
              <a:ext cx="739080" cy="3060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66" name=""/>
            <p:cNvCxnSpPr>
              <a:stCxn id="250" idx="5"/>
              <a:endCxn id="252" idx="1"/>
            </p:cNvCxnSpPr>
            <p:nvPr/>
          </p:nvCxnSpPr>
          <p:spPr>
            <a:xfrm>
              <a:off x="5599080" y="5984640"/>
              <a:ext cx="704160" cy="24480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67" name=""/>
            <p:cNvCxnSpPr>
              <a:stCxn id="251" idx="0"/>
              <a:endCxn id="254" idx="3"/>
            </p:cNvCxnSpPr>
            <p:nvPr/>
          </p:nvCxnSpPr>
          <p:spPr>
            <a:xfrm flipV="1">
              <a:off x="6732360" y="4475880"/>
              <a:ext cx="338760" cy="55476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1" idx="0"/>
              <a:endCxn id="260" idx="2"/>
            </p:cNvCxnSpPr>
            <p:nvPr/>
          </p:nvCxnSpPr>
          <p:spPr>
            <a:xfrm flipV="1">
              <a:off x="6732360" y="4752360"/>
              <a:ext cx="370440" cy="2782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1" idx="0"/>
              <a:endCxn id="262" idx="3"/>
            </p:cNvCxnSpPr>
            <p:nvPr/>
          </p:nvCxnSpPr>
          <p:spPr>
            <a:xfrm flipH="1" flipV="1">
              <a:off x="6500520" y="4574520"/>
              <a:ext cx="234000" cy="45612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3" idx="3"/>
              <a:endCxn id="256" idx="2"/>
            </p:cNvCxnSpPr>
            <p:nvPr/>
          </p:nvCxnSpPr>
          <p:spPr>
            <a:xfrm flipV="1">
              <a:off x="7286400" y="5613120"/>
              <a:ext cx="308520" cy="12456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2" idx="3"/>
              <a:endCxn id="258" idx="2"/>
            </p:cNvCxnSpPr>
            <p:nvPr/>
          </p:nvCxnSpPr>
          <p:spPr>
            <a:xfrm>
              <a:off x="7164360" y="6229080"/>
              <a:ext cx="246960" cy="10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3579840" y="5864400"/>
              <a:ext cx="492120" cy="4903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25720" y="5956200"/>
              <a:ext cx="60480" cy="42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86200" y="6043680"/>
              <a:ext cx="61920" cy="442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63800" y="6043680"/>
              <a:ext cx="61920" cy="442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1880" y="6130800"/>
              <a:ext cx="61920" cy="446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5720" y="6130800"/>
              <a:ext cx="60480" cy="446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6200" y="6219720"/>
              <a:ext cx="61920" cy="42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6219720"/>
              <a:ext cx="61920" cy="42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>
              <a:stCxn id="273" idx="3"/>
              <a:endCxn id="275" idx="0"/>
            </p:cNvCxnSpPr>
            <p:nvPr/>
          </p:nvCxnSpPr>
          <p:spPr>
            <a:xfrm flipH="1">
              <a:off x="3793680" y="599256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1" name=""/>
            <p:cNvCxnSpPr>
              <a:stCxn id="275" idx="3"/>
              <a:endCxn id="276" idx="0"/>
            </p:cNvCxnSpPr>
            <p:nvPr/>
          </p:nvCxnSpPr>
          <p:spPr>
            <a:xfrm flipH="1">
              <a:off x="3733560" y="6081840"/>
              <a:ext cx="40320" cy="496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2" name=""/>
            <p:cNvCxnSpPr>
              <a:stCxn id="273" idx="5"/>
              <a:endCxn id="274" idx="0"/>
            </p:cNvCxnSpPr>
            <p:nvPr/>
          </p:nvCxnSpPr>
          <p:spPr>
            <a:xfrm>
              <a:off x="3878280" y="599256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3" name=""/>
            <p:cNvCxnSpPr>
              <a:stCxn id="275" idx="5"/>
              <a:endCxn id="277" idx="0"/>
            </p:cNvCxnSpPr>
            <p:nvPr/>
          </p:nvCxnSpPr>
          <p:spPr>
            <a:xfrm>
              <a:off x="3816360" y="6081840"/>
              <a:ext cx="40320" cy="496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4" name=""/>
            <p:cNvCxnSpPr>
              <a:stCxn id="277" idx="3"/>
              <a:endCxn id="279" idx="0"/>
            </p:cNvCxnSpPr>
            <p:nvPr/>
          </p:nvCxnSpPr>
          <p:spPr>
            <a:xfrm flipH="1">
              <a:off x="3793680" y="616860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5" name=""/>
            <p:cNvCxnSpPr>
              <a:stCxn id="277" idx="5"/>
              <a:endCxn id="278" idx="0"/>
            </p:cNvCxnSpPr>
            <p:nvPr/>
          </p:nvCxnSpPr>
          <p:spPr>
            <a:xfrm>
              <a:off x="3878280" y="616860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2841480" y="555624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Web 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73" idx="7"/>
              <a:endCxn id="250" idx="2"/>
            </p:cNvCxnSpPr>
            <p:nvPr/>
          </p:nvCxnSpPr>
          <p:spPr>
            <a:xfrm flipV="1">
              <a:off x="3878280" y="5767200"/>
              <a:ext cx="1195920" cy="19584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87" name=""/>
            <p:cNvCxnSpPr>
              <a:stCxn id="250" idx="1"/>
              <a:endCxn id="288" idx="2"/>
            </p:cNvCxnSpPr>
            <p:nvPr/>
          </p:nvCxnSpPr>
          <p:spPr>
            <a:xfrm flipH="1" flipV="1">
              <a:off x="4718880" y="5011200"/>
              <a:ext cx="445320" cy="54072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288" name=""/>
            <p:cNvSpPr/>
            <p:nvPr/>
          </p:nvSpPr>
          <p:spPr>
            <a:xfrm>
              <a:off x="4289400" y="458136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Ontolog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73720" y="3905280"/>
              <a:ext cx="30780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stCxn id="288" idx="0"/>
              <a:endCxn id="289" idx="3"/>
            </p:cNvCxnSpPr>
            <p:nvPr/>
          </p:nvCxnSpPr>
          <p:spPr>
            <a:xfrm flipH="1" flipV="1">
              <a:off x="4627080" y="4210920"/>
              <a:ext cx="92880" cy="37044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4824000" y="3961800"/>
              <a:ext cx="84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ploration of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Conceptual Open Hypermedia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– the COHSE project (with Southampton University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ow can a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conceptual model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ontology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improve the construction of hypertexts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at is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querying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at is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linking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house" descr=""/>
          <p:cNvPicPr/>
          <p:nvPr/>
        </p:nvPicPr>
        <p:blipFill>
          <a:blip r:embed="rId1"/>
          <a:stretch/>
        </p:blipFill>
        <p:spPr>
          <a:xfrm>
            <a:off x="5791320" y="4500720"/>
            <a:ext cx="3019320" cy="19825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ean Bechhof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partment of Computer Science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seanb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http://img.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105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 Narrow"/>
              </a:rPr>
              <a:t>Many thanks to Manchester City Art Galleries, in particular Liz Mitchell and the staff at the Platt Hall Gall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helmet" descr=""/>
          <p:cNvPicPr/>
          <p:nvPr/>
        </p:nvPicPr>
        <p:blipFill>
          <a:blip r:embed="rId1"/>
          <a:stretch/>
        </p:blipFill>
        <p:spPr>
          <a:xfrm>
            <a:off x="3716280" y="1716120"/>
            <a:ext cx="215100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wcoat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620720" cy="2271600"/>
          </a:xfrm>
          <a:prstGeom prst="rect">
            <a:avLst/>
          </a:prstGeom>
          <a:ln w="0">
            <a:noFill/>
          </a:ln>
        </p:spPr>
      </p:pic>
      <p:pic>
        <p:nvPicPr>
          <p:cNvPr id="56" name="abha" descr=""/>
          <p:cNvPicPr/>
          <p:nvPr/>
        </p:nvPicPr>
        <p:blipFill>
          <a:blip r:embed="rId3"/>
          <a:stretch/>
        </p:blipFill>
        <p:spPr>
          <a:xfrm>
            <a:off x="6477120" y="512640"/>
            <a:ext cx="2295360" cy="2630520"/>
          </a:xfrm>
          <a:prstGeom prst="rect">
            <a:avLst/>
          </a:prstGeom>
          <a:ln w="0">
            <a:noFill/>
          </a:ln>
        </p:spPr>
      </p:pic>
      <p:pic>
        <p:nvPicPr>
          <p:cNvPr id="57" name="suit" descr=""/>
          <p:cNvPicPr/>
          <p:nvPr/>
        </p:nvPicPr>
        <p:blipFill>
          <a:blip r:embed="rId4"/>
          <a:stretch/>
        </p:blipFill>
        <p:spPr>
          <a:xfrm>
            <a:off x="914400" y="3276720"/>
            <a:ext cx="2455920" cy="326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325440" y="1935000"/>
            <a:ext cx="980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“</a:t>
            </a: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What have 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got like </a:t>
            </a:r>
            <a:r>
              <a:rPr b="1" lang="en-GB" sz="9600" spc="-1" strike="noStrike">
                <a:solidFill>
                  <a:srgbClr val="ff0000"/>
                </a:solidFill>
                <a:latin typeface="Pornhut"/>
              </a:rPr>
              <a:t>this</a:t>
            </a: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?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an" descr=""/>
          <p:cNvPicPr/>
          <p:nvPr/>
        </p:nvPicPr>
        <p:blipFill>
          <a:blip r:embed="rId5"/>
          <a:stretch/>
        </p:blipFill>
        <p:spPr>
          <a:xfrm>
            <a:off x="6356520" y="4987800"/>
            <a:ext cx="25146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ouse" descr=""/>
          <p:cNvPicPr/>
          <p:nvPr/>
        </p:nvPicPr>
        <p:blipFill>
          <a:blip r:embed="rId1"/>
          <a:stretch/>
        </p:blipFill>
        <p:spPr>
          <a:xfrm>
            <a:off x="5791320" y="4500720"/>
            <a:ext cx="3019320" cy="1982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Platt Hall Gallery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tensive collection of artifacts covering all aspects of dress, dress care and dressmak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pprox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20,000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object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ide ranging, encompassing clothing for men, women and children of all ages and social classe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Gallery is keen to investigate the use of IT in order to deliver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mproved access to the collection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if-record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653080" cy="3587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Sample Record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2286000"/>
            <a:ext cx="5029200" cy="3200400"/>
            <a:chOff x="457200" y="2286000"/>
            <a:chExt cx="5029200" cy="3200400"/>
          </a:xfrm>
        </p:grpSpPr>
        <p:sp>
          <p:nvSpPr>
            <p:cNvPr id="66" name=""/>
            <p:cNvSpPr/>
            <p:nvPr/>
          </p:nvSpPr>
          <p:spPr>
            <a:xfrm>
              <a:off x="457200" y="2362320"/>
              <a:ext cx="144792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ollection Metadata (title, donor, da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6" idx="3"/>
              <a:endCxn id="68" idx="1"/>
            </p:cNvCxnSpPr>
            <p:nvPr/>
          </p:nvCxnSpPr>
          <p:spPr>
            <a:xfrm flipV="1">
              <a:off x="1905120" y="2590200"/>
              <a:ext cx="381600" cy="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2286000" y="2286000"/>
              <a:ext cx="1295280" cy="6094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5029200"/>
              <a:ext cx="32004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6" idx="3"/>
              <a:endCxn id="69" idx="1"/>
            </p:cNvCxnSpPr>
            <p:nvPr/>
          </p:nvCxnSpPr>
          <p:spPr>
            <a:xfrm>
              <a:off x="1905120" y="2620440"/>
              <a:ext cx="381600" cy="263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1" name=""/>
          <p:cNvGrpSpPr/>
          <p:nvPr/>
        </p:nvGrpSpPr>
        <p:grpSpPr>
          <a:xfrm>
            <a:off x="457200" y="2933640"/>
            <a:ext cx="5029200" cy="2019240"/>
            <a:chOff x="457200" y="2933640"/>
            <a:chExt cx="5029200" cy="2019240"/>
          </a:xfrm>
        </p:grpSpPr>
        <p:sp>
          <p:nvSpPr>
            <p:cNvPr id="72" name=""/>
            <p:cNvSpPr/>
            <p:nvPr/>
          </p:nvSpPr>
          <p:spPr>
            <a:xfrm>
              <a:off x="457200" y="3962520"/>
              <a:ext cx="13716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bject 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6000" y="2933640"/>
              <a:ext cx="3200400" cy="2019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2" idx="3"/>
              <a:endCxn id="73" idx="1"/>
            </p:cNvCxnSpPr>
            <p:nvPr/>
          </p:nvCxnSpPr>
          <p:spPr>
            <a:xfrm flipV="1">
              <a:off x="1828800" y="3943080"/>
              <a:ext cx="457920" cy="17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" name=""/>
          <p:cNvGrpSpPr/>
          <p:nvPr/>
        </p:nvGrpSpPr>
        <p:grpSpPr>
          <a:xfrm>
            <a:off x="5543640" y="2286000"/>
            <a:ext cx="3165480" cy="2743200"/>
            <a:chOff x="5543640" y="2286000"/>
            <a:chExt cx="3165480" cy="2743200"/>
          </a:xfrm>
        </p:grpSpPr>
        <p:sp>
          <p:nvSpPr>
            <p:cNvPr id="76" name=""/>
            <p:cNvSpPr/>
            <p:nvPr/>
          </p:nvSpPr>
          <p:spPr>
            <a:xfrm>
              <a:off x="8134200" y="3352680"/>
              <a:ext cx="5749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43640" y="2286000"/>
              <a:ext cx="2133360" cy="2743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6" idx="1"/>
              <a:endCxn id="77" idx="3"/>
            </p:cNvCxnSpPr>
            <p:nvPr/>
          </p:nvCxnSpPr>
          <p:spPr>
            <a:xfrm flipH="1">
              <a:off x="7676640" y="3504960"/>
              <a:ext cx="457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an" descr=""/>
          <p:cNvPicPr/>
          <p:nvPr/>
        </p:nvPicPr>
        <p:blipFill>
          <a:blip r:embed="rId1"/>
          <a:stretch/>
        </p:blipFill>
        <p:spPr>
          <a:xfrm>
            <a:off x="6353280" y="4800600"/>
            <a:ext cx="2514600" cy="1654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Gallery User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Goal-drive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specialists wit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information ne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sual, but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goal-drive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seekers wit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mpreci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information ne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oject Student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sual visitors wit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no goal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mpreci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information needs. These users are often ignorant of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ntent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lassification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dexing strate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962520"/>
            <a:ext cx="77724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Casual visitors with no goals and imprecise information n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ress" descr=""/>
          <p:cNvPicPr/>
          <p:nvPr/>
        </p:nvPicPr>
        <p:blipFill>
          <a:blip r:embed="rId1"/>
          <a:stretch/>
        </p:blipFill>
        <p:spPr>
          <a:xfrm>
            <a:off x="7315200" y="3733920"/>
            <a:ext cx="1389240" cy="2682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Seeking Strategie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nalytical Search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eeds are explored systematical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eeds are compared to aspects of artifa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arch by Ana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ind something similar to a known item that may lead to terms to use in an analytical sea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o clear idea of what the user wants. Scan for possible matches between an intuitive information need and the available item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254480"/>
            <a:ext cx="77724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149640"/>
            <a:ext cx="77724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earch by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715000" y="3581280"/>
            <a:ext cx="2895480" cy="2667240"/>
            <a:chOff x="5715000" y="3581280"/>
            <a:chExt cx="2895480" cy="2667240"/>
          </a:xfrm>
        </p:grpSpPr>
        <p:sp>
          <p:nvSpPr>
            <p:cNvPr id="89" name=""/>
            <p:cNvSpPr/>
            <p:nvPr/>
          </p:nvSpPr>
          <p:spPr>
            <a:xfrm flipV="1">
              <a:off x="5715000" y="388620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ccec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619760" y="579132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305560" y="449568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172200" y="548640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315200" y="358128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endCxn id="93" idx="1"/>
            </p:cNvCxnSpPr>
            <p:nvPr/>
          </p:nvCxnSpPr>
          <p:spPr>
            <a:xfrm flipV="1">
              <a:off x="5867280" y="3809520"/>
              <a:ext cx="1448640" cy="2671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endCxn id="91" idx="2"/>
            </p:cNvCxnSpPr>
            <p:nvPr/>
          </p:nvCxnSpPr>
          <p:spPr>
            <a:xfrm>
              <a:off x="7467120" y="3772080"/>
              <a:ext cx="989280" cy="7243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endCxn id="90" idx="3"/>
            </p:cNvCxnSpPr>
            <p:nvPr/>
          </p:nvCxnSpPr>
          <p:spPr>
            <a:xfrm flipH="1">
              <a:off x="7922880" y="4686480"/>
              <a:ext cx="535680" cy="1334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>
              <a:endCxn id="89" idx="3"/>
            </p:cNvCxnSpPr>
            <p:nvPr/>
          </p:nvCxnSpPr>
          <p:spPr>
            <a:xfrm flipH="1" flipV="1">
              <a:off x="6017760" y="4114440"/>
              <a:ext cx="2440800" cy="5724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endCxn id="92" idx="3"/>
            </p:cNvCxnSpPr>
            <p:nvPr/>
          </p:nvCxnSpPr>
          <p:spPr>
            <a:xfrm flipH="1">
              <a:off x="6474600" y="4659480"/>
              <a:ext cx="1994760" cy="105624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>
              <a:endCxn id="89" idx="0"/>
            </p:cNvCxnSpPr>
            <p:nvPr/>
          </p:nvCxnSpPr>
          <p:spPr>
            <a:xfrm flipH="1" flipV="1">
              <a:off x="5865480" y="4343040"/>
              <a:ext cx="459360" cy="1334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endCxn id="89" idx="3"/>
            </p:cNvCxnSpPr>
            <p:nvPr/>
          </p:nvCxnSpPr>
          <p:spPr>
            <a:xfrm flipH="1" flipV="1">
              <a:off x="6017760" y="4114080"/>
              <a:ext cx="1766160" cy="18946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Hypertext for Browsing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ypertext appears to offer an appropriate technology to support brows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Generation Hyper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spired by Bush’s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emex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in 194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etwork of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static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, manually authored, point to point link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WWW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for examp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aintenanc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problems –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angling link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pdating n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inks are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prescriptiv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and provided by the system design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334120" y="3505320"/>
            <a:ext cx="3403080" cy="2895480"/>
            <a:chOff x="5334120" y="3505320"/>
            <a:chExt cx="3403080" cy="2895480"/>
          </a:xfrm>
        </p:grpSpPr>
        <p:grpSp>
          <p:nvGrpSpPr>
            <p:cNvPr id="104" name=""/>
            <p:cNvGrpSpPr/>
            <p:nvPr/>
          </p:nvGrpSpPr>
          <p:grpSpPr>
            <a:xfrm>
              <a:off x="5689440" y="3505320"/>
              <a:ext cx="3047760" cy="1447560"/>
              <a:chOff x="5689440" y="3505320"/>
              <a:chExt cx="3047760" cy="1447560"/>
            </a:xfrm>
          </p:grpSpPr>
          <p:sp>
            <p:nvSpPr>
              <p:cNvPr id="105" name=""/>
              <p:cNvSpPr/>
              <p:nvPr/>
            </p:nvSpPr>
            <p:spPr>
              <a:xfrm>
                <a:off x="5689440" y="3505320"/>
                <a:ext cx="3047760" cy="144756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61040" y="3581280"/>
                <a:ext cx="15228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94200" y="3809880"/>
                <a:ext cx="15264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61040" y="3962160"/>
                <a:ext cx="15228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79800" y="37335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51400" y="39621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18240" y="4267080"/>
                <a:ext cx="15228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22600" y="4343400"/>
                <a:ext cx="15264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13320" y="4495680"/>
                <a:ext cx="15228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51400" y="4267080"/>
                <a:ext cx="15264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22600" y="39621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79800" y="44193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09" idx="5"/>
                <a:endCxn id="108" idx="1"/>
              </p:cNvCxnSpPr>
              <p:nvPr/>
            </p:nvCxnSpPr>
            <p:spPr>
              <a:xfrm>
                <a:off x="6810120" y="3863880"/>
                <a:ext cx="273240" cy="120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18" name=""/>
              <p:cNvCxnSpPr>
                <a:stCxn id="107" idx="4"/>
                <a:endCxn id="111" idx="0"/>
              </p:cNvCxnSpPr>
              <p:nvPr/>
            </p:nvCxnSpPr>
            <p:spPr>
              <a:xfrm flipH="1">
                <a:off x="7594200" y="3962160"/>
                <a:ext cx="76680" cy="3052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19" name=""/>
              <p:cNvCxnSpPr>
                <a:stCxn id="111" idx="3"/>
                <a:endCxn id="113" idx="7"/>
              </p:cNvCxnSpPr>
              <p:nvPr/>
            </p:nvCxnSpPr>
            <p:spPr>
              <a:xfrm flipH="1">
                <a:off x="7343280" y="4397400"/>
                <a:ext cx="197280" cy="120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0" name=""/>
              <p:cNvCxnSpPr>
                <a:stCxn id="113" idx="2"/>
                <a:endCxn id="116" idx="6"/>
              </p:cNvCxnSpPr>
              <p:nvPr/>
            </p:nvCxnSpPr>
            <p:spPr>
              <a:xfrm flipH="1" flipV="1">
                <a:off x="6832080" y="4494960"/>
                <a:ext cx="381600" cy="766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1" name=""/>
              <p:cNvCxnSpPr>
                <a:stCxn id="116" idx="2"/>
                <a:endCxn id="112" idx="6"/>
              </p:cNvCxnSpPr>
              <p:nvPr/>
            </p:nvCxnSpPr>
            <p:spPr>
              <a:xfrm flipH="1" flipV="1">
                <a:off x="6374880" y="4418640"/>
                <a:ext cx="305280" cy="766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2" name=""/>
              <p:cNvCxnSpPr>
                <a:stCxn id="108" idx="3"/>
                <a:endCxn id="116" idx="7"/>
              </p:cNvCxnSpPr>
              <p:nvPr/>
            </p:nvCxnSpPr>
            <p:spPr>
              <a:xfrm flipH="1">
                <a:off x="6810120" y="4092120"/>
                <a:ext cx="273240" cy="3495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3" name=""/>
              <p:cNvCxnSpPr>
                <a:stCxn id="108" idx="0"/>
                <a:endCxn id="106" idx="4"/>
              </p:cNvCxnSpPr>
              <p:nvPr/>
            </p:nvCxnSpPr>
            <p:spPr>
              <a:xfrm flipV="1">
                <a:off x="7136640" y="3733200"/>
                <a:ext cx="1080" cy="228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4" name=""/>
              <p:cNvCxnSpPr>
                <a:stCxn id="109" idx="2"/>
                <a:endCxn id="115" idx="7"/>
              </p:cNvCxnSpPr>
              <p:nvPr/>
            </p:nvCxnSpPr>
            <p:spPr>
              <a:xfrm flipH="1">
                <a:off x="6352560" y="3809880"/>
                <a:ext cx="327600" cy="174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5" name=""/>
              <p:cNvCxnSpPr>
                <a:stCxn id="115" idx="4"/>
                <a:endCxn id="112" idx="0"/>
              </p:cNvCxnSpPr>
              <p:nvPr/>
            </p:nvCxnSpPr>
            <p:spPr>
              <a:xfrm>
                <a:off x="6298560" y="4114800"/>
                <a:ext cx="1080" cy="228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6" name=""/>
              <p:cNvCxnSpPr>
                <a:stCxn id="107" idx="6"/>
                <a:endCxn id="110" idx="2"/>
              </p:cNvCxnSpPr>
              <p:nvPr/>
            </p:nvCxnSpPr>
            <p:spPr>
              <a:xfrm>
                <a:off x="7746840" y="3886200"/>
                <a:ext cx="305280" cy="15264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7" name=""/>
              <p:cNvCxnSpPr>
                <a:stCxn id="110" idx="4"/>
                <a:endCxn id="114" idx="0"/>
              </p:cNvCxnSpPr>
              <p:nvPr/>
            </p:nvCxnSpPr>
            <p:spPr>
              <a:xfrm>
                <a:off x="8127360" y="4114800"/>
                <a:ext cx="1080" cy="15264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</p:grpSp>
        <p:sp>
          <p:nvSpPr>
            <p:cNvPr id="128" name=""/>
            <p:cNvSpPr/>
            <p:nvPr/>
          </p:nvSpPr>
          <p:spPr>
            <a:xfrm flipV="1">
              <a:off x="639432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ccec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72776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06104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72760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394840" y="594360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9280" y="3530520"/>
              <a:ext cx="761760" cy="432000"/>
            </a:xfrm>
            <a:custGeom>
              <a:avLst/>
              <a:gdLst/>
              <a:ahLst/>
              <a:rect l="l" t="t" r="r" b="b"/>
              <a:pathLst>
                <a:path w="432" h="272">
                  <a:moveTo>
                    <a:pt x="0" y="272"/>
                  </a:moveTo>
                  <a:cubicBezTo>
                    <a:pt x="12" y="168"/>
                    <a:pt x="24" y="64"/>
                    <a:pt x="96" y="32"/>
                  </a:cubicBezTo>
                  <a:cubicBezTo>
                    <a:pt x="168" y="0"/>
                    <a:pt x="300" y="40"/>
                    <a:pt x="432" y="80"/>
                  </a:cubicBezTo>
                </a:path>
              </a:pathLst>
            </a:custGeom>
            <a:noFill/>
            <a:ln w="38160">
              <a:solidFill>
                <a:srgbClr val="ffcccc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18040" y="5943600"/>
              <a:ext cx="1371600" cy="304920"/>
            </a:xfrm>
            <a:custGeom>
              <a:avLst/>
              <a:gdLst/>
              <a:ahLst/>
              <a:rect l="l" t="t" r="r" b="b"/>
              <a:pathLst>
                <a:path w="864" h="192">
                  <a:moveTo>
                    <a:pt x="0" y="192"/>
                  </a:moveTo>
                  <a:cubicBezTo>
                    <a:pt x="144" y="96"/>
                    <a:pt x="288" y="0"/>
                    <a:pt x="432" y="0"/>
                  </a:cubicBezTo>
                  <a:cubicBezTo>
                    <a:pt x="576" y="0"/>
                    <a:pt x="720" y="96"/>
                    <a:pt x="864" y="192"/>
                  </a:cubicBezTo>
                </a:path>
              </a:pathLst>
            </a:custGeom>
            <a:noFill/>
            <a:ln w="38160">
              <a:solidFill>
                <a:srgbClr val="b2b2b2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4114800"/>
              <a:ext cx="888840" cy="1905120"/>
            </a:xfrm>
            <a:custGeom>
              <a:avLst/>
              <a:gdLst/>
              <a:ahLst/>
              <a:rect l="l" t="t" r="r" b="b"/>
              <a:pathLst>
                <a:path w="512" h="1248">
                  <a:moveTo>
                    <a:pt x="320" y="1248"/>
                  </a:moveTo>
                  <a:cubicBezTo>
                    <a:pt x="160" y="1016"/>
                    <a:pt x="0" y="784"/>
                    <a:pt x="32" y="576"/>
                  </a:cubicBezTo>
                  <a:cubicBezTo>
                    <a:pt x="64" y="368"/>
                    <a:pt x="288" y="184"/>
                    <a:pt x="512" y="0"/>
                  </a:cubicBezTo>
                </a:path>
              </a:pathLst>
            </a:custGeom>
            <a:noFill/>
            <a:ln w="38160">
              <a:solidFill>
                <a:srgbClr val="ffcccc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3680" y="3657600"/>
              <a:ext cx="469800" cy="2438280"/>
            </a:xfrm>
            <a:custGeom>
              <a:avLst/>
              <a:gdLst/>
              <a:ahLst/>
              <a:rect l="l" t="t" r="r" b="b"/>
              <a:pathLst>
                <a:path w="296" h="1536">
                  <a:moveTo>
                    <a:pt x="0" y="0"/>
                  </a:moveTo>
                  <a:cubicBezTo>
                    <a:pt x="140" y="184"/>
                    <a:pt x="280" y="368"/>
                    <a:pt x="288" y="624"/>
                  </a:cubicBezTo>
                  <a:cubicBezTo>
                    <a:pt x="296" y="880"/>
                    <a:pt x="172" y="1208"/>
                    <a:pt x="48" y="1536"/>
                  </a:cubicBezTo>
                </a:path>
              </a:pathLst>
            </a:custGeom>
            <a:noFill/>
            <a:ln w="38160">
              <a:solidFill>
                <a:srgbClr val="ffcccc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918040" y="3657240"/>
              <a:ext cx="2590560" cy="2362320"/>
              <a:chOff x="5918040" y="3657240"/>
              <a:chExt cx="2590560" cy="236232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918040" y="4038120"/>
                <a:ext cx="380880" cy="198108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7137000" y="3657240"/>
                <a:ext cx="76320" cy="236196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6756120" y="4495320"/>
                <a:ext cx="1752480" cy="152388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527520" y="4495320"/>
                <a:ext cx="228600" cy="152388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8127720" y="4343400"/>
                <a:ext cx="380880" cy="167616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Hypertext</a:t>
            </a: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 for Browsing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Generation Hyper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parate Links from Docum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documents and links using a schem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ormation about the hypertext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represented explicit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Metadat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which can be used to </a:t>
            </a: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reaso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bout content and stru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sociations (Links) derived through querying the schem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ormation Retrieval (IR) view takes this to its lim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tain descriptors for each document which characterise cont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ery using those descrip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explicit links between docum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71500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 Narrow"/>
              </a:rPr>
              <a:t>Can we improve authoring and browsing sup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beaded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1298520" cy="2465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Our Strategy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mploy a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Generation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tract keywords from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description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nd associated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nks derived using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keyword match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gainst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 Narrow"/>
              </a:rPr>
              <a:t>Is this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505320"/>
            <a:ext cx="7701120" cy="2022480"/>
            <a:chOff x="838080" y="3505320"/>
            <a:chExt cx="7701120" cy="2022480"/>
          </a:xfrm>
        </p:grpSpPr>
        <p:pic>
          <p:nvPicPr>
            <p:cNvPr id="151" name="coif" descr=""/>
            <p:cNvPicPr/>
            <p:nvPr/>
          </p:nvPicPr>
          <p:blipFill>
            <a:blip r:embed="rId2"/>
            <a:stretch/>
          </p:blipFill>
          <p:spPr>
            <a:xfrm>
              <a:off x="838080" y="3525840"/>
              <a:ext cx="259560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523880" y="4287960"/>
              <a:ext cx="228600" cy="759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400" y="4821120"/>
              <a:ext cx="228600" cy="76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5049720"/>
              <a:ext cx="228600" cy="76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2" idx="3"/>
              <a:endCxn id="156" idx="1"/>
            </p:cNvCxnSpPr>
            <p:nvPr/>
          </p:nvCxnSpPr>
          <p:spPr>
            <a:xfrm flipV="1">
              <a:off x="1752480" y="3890520"/>
              <a:ext cx="1829520" cy="43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</p:cxnSp>
        <p:cxnSp>
          <p:nvCxnSpPr>
            <p:cNvPr id="157" name=""/>
            <p:cNvCxnSpPr>
              <a:stCxn id="153" idx="3"/>
              <a:endCxn id="156" idx="1"/>
            </p:cNvCxnSpPr>
            <p:nvPr/>
          </p:nvCxnSpPr>
          <p:spPr>
            <a:xfrm flipV="1">
              <a:off x="1142640" y="3890520"/>
              <a:ext cx="2439000" cy="969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</p:cxnSp>
        <p:cxnSp>
          <p:nvCxnSpPr>
            <p:cNvPr id="158" name=""/>
            <p:cNvCxnSpPr>
              <a:stCxn id="154" idx="3"/>
              <a:endCxn id="156" idx="1"/>
            </p:cNvCxnSpPr>
            <p:nvPr/>
          </p:nvCxnSpPr>
          <p:spPr>
            <a:xfrm flipV="1">
              <a:off x="1980720" y="3890520"/>
              <a:ext cx="1600920" cy="119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</p:cxnSp>
        <p:sp>
          <p:nvSpPr>
            <p:cNvPr id="156" name=""/>
            <p:cNvSpPr/>
            <p:nvPr/>
          </p:nvSpPr>
          <p:spPr>
            <a:xfrm>
              <a:off x="3581280" y="3525840"/>
              <a:ext cx="221004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Keywords identified in the text are used as the basis of a query. The results of that query are then used to generate lin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coif-search" descr=""/>
            <p:cNvPicPr/>
            <p:nvPr/>
          </p:nvPicPr>
          <p:blipFill>
            <a:blip r:embed="rId3"/>
            <a:stretch/>
          </p:blipFill>
          <p:spPr>
            <a:xfrm>
              <a:off x="5943600" y="3505320"/>
              <a:ext cx="259560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858000" y="3944880"/>
              <a:ext cx="6858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56" idx="3"/>
              <a:endCxn id="160" idx="1"/>
            </p:cNvCxnSpPr>
            <p:nvPr/>
          </p:nvCxnSpPr>
          <p:spPr>
            <a:xfrm>
              <a:off x="5790960" y="3890880"/>
              <a:ext cx="1067400" cy="9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62" name=""/>
          <p:cNvSpPr/>
          <p:nvPr/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s this linking or query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15:43:53Z</dcterms:created>
  <dc:creator>Sean Bechhofer</dc:creator>
  <dc:description/>
  <dc:language>en-US</dc:language>
  <cp:lastModifiedBy>Sean Bechhofer</cp:lastModifiedBy>
  <cp:lastPrinted>2000-02-09T13:52:38Z</cp:lastPrinted>
  <dcterms:modified xsi:type="dcterms:W3CDTF">2000-09-03T13:46:54Z</dcterms:modified>
  <cp:revision>1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F:\Projects\COHSE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